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772-18AE-4621-9B04-C7EFFA2F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1D0-7FA3-40E3-B254-34267404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4DD-3B87-47A1-AA9E-2AD0F7D2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F29-0A2D-46CF-8989-2476F5D9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0BC-7130-4793-848A-DE180B9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3E4-8BC5-434F-9F82-B7A8A2C5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6CC-CD7B-4A62-8641-4F8AE1A8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EE3-3DA2-496B-B351-BF085B50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6F2-CF7D-4466-97BB-64A735EE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289-8D92-435B-85AA-4E578FF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31D-31E1-4741-9A8B-70BD5B7D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B21-65CC-4224-8C43-C564B57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4EBF-B2C7-4BD9-9D95-ACBE60880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Papyrus"/>
              </a:rPr>
              <a:t>La Casa de Mis Sue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Papyrus"/>
              </a:rPr>
              <a:t>Por: Kaylee Kave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í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63360" y="-205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3360" y="-2052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2727360" y="532296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í casa localizada en Hawa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í casa es magnifico y increí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1"/>
          <a:stretch/>
        </p:blipFill>
        <p:spPr>
          <a:xfrm>
            <a:off x="2971800" y="2019240"/>
            <a:ext cx="34290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El Dormo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248920" y="5037120"/>
            <a:ext cx="456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Mí dormotorio es grande. Mí dormo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tiene una cama, almon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y un escitor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ink bedroom"/>
          <p:cNvPicPr/>
          <p:nvPr/>
        </p:nvPicPr>
        <p:blipFill>
          <a:blip r:embed="rId1"/>
          <a:stretch/>
        </p:blipFill>
        <p:spPr>
          <a:xfrm>
            <a:off x="1905120" y="1523880"/>
            <a:ext cx="527688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kitchen_design_hardwood_mouldings"/>
          <p:cNvPicPr/>
          <p:nvPr/>
        </p:nvPicPr>
        <p:blipFill>
          <a:blip r:embed="rId1"/>
          <a:stretch/>
        </p:blipFill>
        <p:spPr>
          <a:xfrm>
            <a:off x="2571840" y="1962000"/>
            <a:ext cx="4000320" cy="293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538280" y="514656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cina es muy grande. La cocina tiene un horn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 muchos sartens. La casa tiene cubi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El Cuatro de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bathroom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031120" y="525780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El baño es incredible. El baño tien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armario, una retrete, una banera y una du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286000" y="1736640"/>
            <a:ext cx="4367160" cy="2909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053800" y="5257800"/>
            <a:ext cx="487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 sala es muy lujusa. La sala tiene un so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a mesa y una tel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666880" y="2004840"/>
            <a:ext cx="3810240" cy="2848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468800" y="5641920"/>
            <a:ext cx="60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l comedor es moderno. El comedor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una mesa con sillas. El comedor 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agnifico y pequeno. En el comedor, me gusta com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2128680" y="1749600"/>
            <a:ext cx="4797720" cy="359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255040" y="5562720"/>
            <a:ext cx="48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La piscina es pequeña, pero es muy lujo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La piscina tiene palmeras y plan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En mi piscina, me gusta n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5:19:35Z</dcterms:created>
  <dc:creator>kaveneykay</dc:creator>
  <dc:description/>
  <dc:language>en-US</dc:language>
  <cp:lastModifiedBy>Mama</cp:lastModifiedBy>
  <dcterms:modified xsi:type="dcterms:W3CDTF">2012-05-22T21:24:49Z</dcterms:modified>
  <cp:revision>10</cp:revision>
  <dc:subject/>
  <dc:title>La Casa de Mis Suenos</dc:title>
</cp:coreProperties>
</file>